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DD5C4-1F0E-4BCD-97E6-05C74569E897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. ARB are more expensive and no evidence that ARB is superior than AC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 to recommendation 6 page 13 of CKD CP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594C3-A62E-43A5-994D-F2AC4EBE35D2}" type="slidenum">
              <a:rPr b="0" lang="ms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1B1-0827-4C14-B14D-35678945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D08-1492-4696-8C39-005A8522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B2D-9857-4CF8-942B-AC266644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204-B513-41CD-8476-8191E65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47A-C589-40CD-A42F-C3240AB9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9DF-F9EB-43C2-B6CE-FAFD1B7F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7E4-1312-4ED7-9DE5-A75BB8F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AB5D-669B-4577-98F2-43E8B0C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7B7-E2BF-4296-B1A9-A670981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0BA-AB54-4068-B0ED-76F531E7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95BC-0A78-48D1-9FBA-0689D5D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096-DABA-49C9-825D-D636743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8DA5-A56F-4AF5-AED0-56AA6E8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03D-3729-40CC-8D6F-E79A444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4ECD-489B-468B-8748-9369DB4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AF6-CB5A-4B74-BD58-8F6BD4ED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F23-DC88-4FE0-8738-895A9F9D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5FC8-62A5-453D-8180-B9ECB969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6EA1-2D06-4E5E-9C7D-53004A09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48F6-A32B-4388-B48D-686D55F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47CB-7EA3-4456-A757-1F270420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8283-9A87-46AC-BE4C-63E32FE9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C97-85E0-4DFB-913E-3D5D866E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4088-ACBA-4FF8-8CA7-507C547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3A7B-7CAA-4F78-8E0F-302E118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4112-5DB4-4132-A0FE-10C5C68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5815-833C-4D1B-B9AE-60575EBC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9155-8105-486D-82CD-3D3C8E7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D80E-905A-4EAC-946F-34A92627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8D73-0DDE-42AF-9487-A9847D04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57A9-36DD-491D-AB74-147A63AC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249D-15B4-4323-B6B3-25E4FC2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89A1-A811-4938-A775-F66100E7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32A-6EA2-4087-8037-2E218AE4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163D-DFC0-450F-9C3A-A6971EE1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80D4-E75F-4935-BD98-10203C0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3EC8-74C3-4DE4-A23F-F135A94E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7EAD-2009-4376-861D-62C7A8E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6BC9-B66C-46FD-B417-227917A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971D-EF49-4382-A344-5EBDFAD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72CE-066B-4B6D-968F-A5863F9E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A509-DB28-4625-ABF5-8CE03BCA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F60D-943C-46EE-BC49-C33D93C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DEEE-91ED-43FF-8E7A-5C88239F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3B2-EBD9-4B04-9774-9081D86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2C59-7B78-4FE8-A1F5-CF0075C1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EBFF2-FD72-476D-8157-9B53AB6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CBBD-8DDF-4690-ACEF-2E9FCED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8DF7-3D35-40BE-B709-76FEBCE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A955-F787-496C-BBC5-E20AFD5F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2274-285E-407C-A698-F2D856B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1291-EC10-4778-A8AE-D095328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271F3-5B5B-40A5-B320-4D079FB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4268-9BCC-4AFE-BBF4-CFB6A36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43B2F-39AF-4317-B2B1-BC6E38CB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5A8-EE6C-4CB9-80C5-4CDBA8B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DC09-7F93-4CEB-A493-C8E009CB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DB00-8E22-4C58-8350-56185786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3859-C231-4282-B25B-2CA0A03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BF49-A897-435A-A0B5-AB049A34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7C29A-701E-4A00-9C26-3112DBE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979BA-DA21-4B55-8262-C2F5534C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68D1-32B3-407E-B95F-9419130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D22B-D3F3-438E-9B58-AEDF593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E93D-6FDB-4A12-8A50-0D5B2AB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4C56-6795-45CC-B05E-434495D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1C4-4A7D-4D77-AC97-C09C6F7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C3B7F-DA9F-440A-AE5E-C6ABD8C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6AAC-4DFE-472B-A3D2-B889EF49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7CF0-425D-42F4-8CD8-B1F7B246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8A91-CF42-4AB6-B07E-F00DA5A7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6BD7-0137-47D3-B8A6-C65C3B5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4DB96-5F3F-4B32-B8BC-02F3CCF1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E11C6-FADC-40EE-BEAD-2093422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8B429-DF67-4ACB-897F-3EE7732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83A9-D2DB-4957-9E9D-7A650B7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7EDF-C7DA-4713-AA45-363966F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D3D-4679-411C-BFBC-92C8D2F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2D7C-17AC-49CA-8033-8AA2367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B18C-2B8B-44D7-A3E6-C459B62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F5A2-1C61-4854-85AC-FF8FEA92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5F058-440E-4DC7-B395-A55A3522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ED5A-42A0-4359-861A-75D197C3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BA0-3D78-41A0-8DD8-8F9BD46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761B9-9696-475C-BCA3-B65133DCFE0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8A036-1576-422E-9CF3-471FBC1516F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CA467-6C50-4F79-B7B8-6D079E6EF93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26DC2-C342-44B5-AC74-A3284FC4ED7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789D-4C2C-48B8-AE5A-B13B736DF1D1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29DC6-1DDC-4854-B8FC-397CA877A21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D5C81-69F9-45B0-B4FB-7FBCDADD1CD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C003E-0D5C-4116-BB40-94D665F4CBA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FFFD9-6C04-4229-9A92-1EBFD4F7D44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1285B-0A85-43EF-B975-BF6FAC92CF3E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21B42-BA71-4DF9-9CCF-FF5A7EF8594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3294C-0D07-40AE-9D87-6A5CDFE145F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AF082-CB7A-4CF4-90EF-FFD54C67FD8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CA4A3-F17A-409F-B525-D0625667B9D9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CASE DISCUSSION 2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9D487-4523-475A-8A5C-28333588697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32492-B590-4CD2-98C9-3551DAE67A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uretic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a-block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t renin receptor inhibito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99BE5-BBD9-4233-87BA-403AF85E46F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hypertensive age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itial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ddition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5C6A5-403E-491C-B443-A5EB47D8805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96F23-51D5-4032-85A8-11A6B15197A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87280"/>
            <a:ext cx="7710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 </a:t>
            </a:r>
            <a:br>
              <a:rPr sz="4800"/>
            </a:b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Different classes of antiHP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414E1-FAD6-4DBD-A035-8E6FD7C5439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0ACCA-2A23-4C9A-9026-261C605D721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&amp; risk of CV event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Ei/ARB remain as the main agents that confer significant proteinuria reduction that lead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e.g. non-dihydropyridine CCBs, vitamin D analogues, pentoxifylline,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DB8F3-83EB-4F60-AC2F-04CDB178897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ditional treatment for proteinuria redu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etary protein restri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ood glycaemic contr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076FF-6E8D-4C1B-B2E8-E576543E63A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etary protein restri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1246-8AED-4229-893C-4C7B5C56B8D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95A04-6B38-4561-8195-0F8BADB998C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.M. is a 56-year-old man with T2DM which was first diagnosed 3 years ago. Other medical problems include obesity and dyslipidaemia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denies smoking. He has no CVD and is asymptomati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medications: metformin 1 g BD and atorvastatin 40 mg noct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D5090-73F1-4182-A6A0-95D3EA7A632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2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lycaemic control for renoprote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D39AD-1FF9-41F1-BDA6-49D5CACFF6C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84644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2B9C-1BC6-42F7-BBDA-BCE89536A52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ew common anti-diabetes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odium-glucose co-transporter-2 (SGLT-2) inhibito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otenti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cent trials (EMPA-REG, CANVAS/CANVAS-R) on SGLT-2 inhibitors have been shown to improve CV outcomes and may have renoprotective effect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void if eGFR </a:t>
            </a:r>
            <a:r>
              <a:rPr b="0" lang="en-MY" sz="2400" spc="-1" strike="noStrike">
                <a:solidFill>
                  <a:srgbClr val="ff0000"/>
                </a:solidFill>
                <a:latin typeface="Calibri"/>
              </a:rPr>
              <a:t>&lt;45 ml/min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e to reduced efficacy in lowering HbA1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92774-9928-4AE7-9C17-E3255806FE9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etformin - avoid if eGFR &lt;30 ml/m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peptidyl peptidase-4 (DPP-4) inhibitors - dose reduction in CKD for sitagliptin, vildagliptin, saxagliptin. No dose adjustment for linaglipt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lphonylureas - gliclazide, avoid long-acting glibenclami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suli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01287-001B-4E32-B000-D829C57CCF8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189000"/>
            <a:ext cx="7810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 Light"/>
              </a:rPr>
              <a:t>Answer 6 (cont.) - Suggested Treatment Approach for Specific Patient Profiles (Malaysian CPG on T2DM 2016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C9137-4A1A-4BAA-8043-ED69207E342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22160" y="1125360"/>
            <a:ext cx="7810560" cy="53899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: Rounded Corners 9"/>
          <p:cNvSpPr/>
          <p:nvPr/>
        </p:nvSpPr>
        <p:spPr>
          <a:xfrm>
            <a:off x="6837480" y="1125360"/>
            <a:ext cx="1550880" cy="403236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4032360"/>
              <a:gd name="textAreaBottom" fmla="*/ 3956760 h 4032360"/>
            </a:gdLst>
            <a:ahLst/>
            <a:rect l="textAreaLeft" t="textAreaTop" r="textAreaRight" b="textAreaBottom"/>
            <a:pathLst>
              <a:path w="21600" h="56153">
                <a:moveTo>
                  <a:pt x="3600" y="0"/>
                </a:moveTo>
                <a:arcTo wR="3600" hR="3600" stAng="16200000" swAng="-5400000"/>
                <a:lnTo>
                  <a:pt x="0" y="52553"/>
                </a:lnTo>
                <a:arcTo wR="3600" hR="3600" stAng="10800000" swAng="-5400000"/>
                <a:lnTo>
                  <a:pt x="18000" y="56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7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E9D12-F9C4-4689-BA6B-41241E8F8D0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7 - Reduction of CV risk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C848E-3922-4941-AA81-2921238CF38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82080" cy="1295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539640" y="3772080"/>
            <a:ext cx="81820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719CC-AC32-416A-93BE-FB5FBE20730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2240" y="1712880"/>
            <a:ext cx="77104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hysical examination reveal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ight 167 cm, weight 79 kg, BMI of 28.3 kg/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160/100 mmHg and a regular heart rate of 76/mi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 retinopathy or neuropath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aboratory tests reveal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on uri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creatinine 104 µmol/L and eGFR 64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rmal electroly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ndom blood glucose 10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bA1c 8.8%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rine albumin-creatinine-ratio 56 mg/mm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B98A8-33B3-4FC1-A9CC-5B734455CC3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D33C5-B722-4EAB-868D-6B66424C384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6920" y="1773360"/>
            <a:ext cx="7683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48295-878B-4A58-A4CF-020159E7796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EBE85-74AC-4DB9-B826-DB93D1236DC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4B627-B11E-457F-8240-6F2161C0205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: Rounded Corners 1"/>
          <p:cNvSpPr/>
          <p:nvPr/>
        </p:nvSpPr>
        <p:spPr>
          <a:xfrm>
            <a:off x="6835680" y="2755800"/>
            <a:ext cx="1239840" cy="2016360"/>
          </a:xfrm>
          <a:custGeom>
            <a:avLst/>
            <a:gdLst>
              <a:gd name="textAreaLeft" fmla="*/ 60480 w 1239840"/>
              <a:gd name="textAreaRight" fmla="*/ 1179360 w 1239840"/>
              <a:gd name="textAreaTop" fmla="*/ 60480 h 2016360"/>
              <a:gd name="textAreaBottom" fmla="*/ 1955880 h 2016360"/>
            </a:gdLst>
            <a:ahLst/>
            <a:rect l="textAreaLeft" t="textAreaTop" r="textAreaRight" b="textAreaBottom"/>
            <a:pathLst>
              <a:path w="21600" h="35124">
                <a:moveTo>
                  <a:pt x="3600" y="0"/>
                </a:moveTo>
                <a:arcTo wR="3600" hR="3600" stAng="16200000" swAng="-5400000"/>
                <a:lnTo>
                  <a:pt x="0" y="31524"/>
                </a:lnTo>
                <a:arcTo wR="3600" hR="3600" stAng="10800000" swAng="-5400000"/>
                <a:lnTo>
                  <a:pt x="18000" y="35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: Rounded Corners 2"/>
          <p:cNvSpPr/>
          <p:nvPr/>
        </p:nvSpPr>
        <p:spPr>
          <a:xfrm>
            <a:off x="2124000" y="4843440"/>
            <a:ext cx="295272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CABD-D409-4468-86B7-553215D16C7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D9C63-0E85-4D96-AC6B-8B0EE04C237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7:09:26Z</dcterms:modified>
  <cp:revision>150</cp:revision>
  <dc:subject/>
  <dc:title>SCREENING &amp; DIAGNOSIS</dc:title>
</cp:coreProperties>
</file>